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11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F077-29A9-4AF9-84BC-C2B736D4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5E0-E0CC-4C9C-B825-9C7F8152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0E6-EC70-4263-BD41-05D9C46D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9AA5-92E1-471B-B689-58CF644B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E48-84C1-40F4-9CD4-A9E87B35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752-907C-4272-B283-0197E702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D0C8-ED75-4BD1-9C21-BF47E6EE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1D7-D13F-45C8-A2E0-B49C8799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6AF-204E-4CEB-81C6-66125FC7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3B7-FCAE-45A8-A973-4F12E18D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49CE-363A-49FC-AEB0-C5A6DABA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7A77-FA16-45E3-88B0-A7011B23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AF0E-1B34-421B-BED0-B43F31568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460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553080"/>
            <a:ext cx="815364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 u="sng">
                <a:solidFill>
                  <a:srgbClr val="6666ff"/>
                </a:solidFill>
                <a:uFillTx/>
                <a:latin typeface="Arial"/>
              </a:rPr>
              <a:t>Vides pārvaldības sistē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2209680"/>
            <a:ext cx="3809880" cy="3657600"/>
          </a:xfrm>
          <a:prstGeom prst="ellipse">
            <a:avLst/>
          </a:prstGeom>
          <a:gradFill rotWithShape="0">
            <a:gsLst>
              <a:gs pos="0">
                <a:srgbClr val="bdbdfe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1828800"/>
            <a:ext cx="1447920" cy="533520"/>
          </a:xfrm>
          <a:prstGeom prst="ellipse">
            <a:avLst/>
          </a:prstGeom>
          <a:gradFill rotWithShape="0">
            <a:gsLst>
              <a:gs pos="0">
                <a:srgbClr val="b8b8fe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2514600"/>
            <a:ext cx="3352680" cy="1066680"/>
          </a:xfrm>
          <a:prstGeom prst="hexagon">
            <a:avLst>
              <a:gd name="adj" fmla="val 78577"/>
              <a:gd name="vf" fmla="val 115470"/>
            </a:avLst>
          </a:prstGeom>
          <a:gradFill rotWithShape="0">
            <a:gsLst>
              <a:gs pos="0">
                <a:srgbClr val="bdbdfe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4267080"/>
            <a:ext cx="2666880" cy="1067040"/>
          </a:xfrm>
          <a:prstGeom prst="hexagon">
            <a:avLst>
              <a:gd name="adj" fmla="val 62483"/>
              <a:gd name="vf" fmla="val 115470"/>
            </a:avLst>
          </a:prstGeom>
          <a:gradFill rotWithShape="0">
            <a:gsLst>
              <a:gs pos="0">
                <a:srgbClr val="9d9dfe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5562720"/>
            <a:ext cx="3429000" cy="761760"/>
          </a:xfrm>
          <a:prstGeom prst="hexagon">
            <a:avLst>
              <a:gd name="adj" fmla="val 112535"/>
              <a:gd name="vf" fmla="val 115470"/>
            </a:avLst>
          </a:prstGeom>
          <a:gradFill rotWithShape="0">
            <a:gsLst>
              <a:gs pos="0">
                <a:srgbClr val="b8b8fe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114800"/>
            <a:ext cx="2895480" cy="1143000"/>
          </a:xfrm>
          <a:prstGeom prst="hexagon">
            <a:avLst>
              <a:gd name="adj" fmla="val 63331"/>
              <a:gd name="vf" fmla="val 115470"/>
            </a:avLst>
          </a:prstGeom>
          <a:gradFill rotWithShape="0">
            <a:gsLst>
              <a:gs pos="0">
                <a:srgbClr val="b3b3fe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2666880"/>
            <a:ext cx="2895480" cy="990720"/>
          </a:xfrm>
          <a:prstGeom prst="hexagon">
            <a:avLst>
              <a:gd name="adj" fmla="val 73065"/>
              <a:gd name="vf" fmla="val 115470"/>
            </a:avLst>
          </a:prstGeom>
          <a:gradFill rotWithShape="0">
            <a:gsLst>
              <a:gs pos="0">
                <a:srgbClr val="b8b8fe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1828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Sāk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17640" y="3630600"/>
            <a:ext cx="25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NEPĀRTRAUK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PILNVEIDOŠAN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89920" y="274320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VIDES POLIT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24240" y="457200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PLĀN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8960" y="571500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IEVIE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54360" y="2590920"/>
            <a:ext cx="189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PĀRSK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PAR V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PĀRVAL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02320" y="4114800"/>
            <a:ext cx="27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KONTROLE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NEPIECIEŠAMĀ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KOREKCI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3570800">
            <a:off x="5625720" y="54367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6477120" y="396216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22860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8433200">
            <a:off x="3314520" y="52956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37339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8190800">
            <a:off x="3695760" y="22474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0C2-A87E-4EBB-ADB3-DEDA8F4745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3792600" cy="3962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85320" y="2136600"/>
            <a:ext cx="739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Nepārtrauk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66ff"/>
                </a:solidFill>
                <a:latin typeface="Times New Roman"/>
              </a:rPr>
              <a:t>plānošana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66ff"/>
                </a:solidFill>
                <a:latin typeface="Times New Roman"/>
              </a:rPr>
              <a:t>ieviešana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66ff"/>
                </a:solidFill>
                <a:latin typeface="Times New Roman"/>
              </a:rPr>
              <a:t>analīzes u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66ff"/>
                </a:solidFill>
                <a:latin typeface="Times New Roman"/>
              </a:rPr>
              <a:t>pilnveidošanas cik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attiecībā uz pasākumiem, kuru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uzņēmums veic, lai apmierinātu ta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izvirzītās vides prasīb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3280" y="31608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76212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 u="sng">
                <a:solidFill>
                  <a:srgbClr val="ff5050"/>
                </a:solidFill>
                <a:uFillTx/>
                <a:latin typeface="Times New Roman"/>
              </a:rPr>
              <a:t>Vides pārvaldības sistēmas Definīci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EB5-600C-4153-B74B-AF4D559393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 flipH="1">
            <a:off x="1294560" y="838080"/>
            <a:ext cx="6705720" cy="5715000"/>
          </a:xfrm>
          <a:custGeom>
            <a:avLst/>
            <a:gdLst>
              <a:gd name="textAreaLeft" fmla="*/ 1530720 w 6705720"/>
              <a:gd name="textAreaRight" fmla="*/ 5175000 w 6705720"/>
              <a:gd name="textAreaTop" fmla="*/ 1304640 h 5715000"/>
              <a:gd name="textAreaBottom" fmla="*/ 4410360 h 571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3333cc"/>
            </a:solidFill>
            <a:miter/>
          </a:ln>
          <a:effectLst>
            <a:outerShdw dist="137587" dir="2021404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76212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58880" y="3048120"/>
            <a:ext cx="41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6666ff"/>
                </a:solidFill>
                <a:latin typeface="Times New Roman"/>
              </a:rPr>
              <a:t>Vides pārvaldīb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6666ff"/>
                </a:solidFill>
                <a:latin typeface="Times New Roman"/>
              </a:rPr>
              <a:t>sistēma - vide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6666ff"/>
                </a:solidFill>
                <a:latin typeface="Times New Roman"/>
              </a:rPr>
              <a:t>draudzīgāk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6666ff"/>
                </a:solidFill>
                <a:latin typeface="Times New Roman"/>
              </a:rPr>
              <a:t>uzņēmu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6666ff"/>
                </a:solidFill>
                <a:latin typeface="Times New Roman"/>
              </a:rPr>
              <a:t>darbīb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43200" y="182880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 u="sng">
                <a:solidFill>
                  <a:srgbClr val="0066ff"/>
                </a:solidFill>
                <a:uFillTx/>
                <a:latin typeface="Times New Roman"/>
              </a:rPr>
              <a:t>Nepārtraukta pilnveidoš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0BC-86A5-4EB0-BDC8-4B9198C881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-609480" y="380880"/>
          <a:ext cx="11658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380880"/>
                    <a:ext cx="11658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69240" y="31608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76212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232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324-E485-446E-B651-3DE4C342C9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16960" y="3920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83808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232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267080"/>
            <a:ext cx="86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33cc"/>
                </a:solidFill>
                <a:latin typeface="Times New Roman"/>
              </a:rPr>
              <a:t>Šajā sadaļā skaidrota vid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33cc"/>
                </a:solidFill>
                <a:latin typeface="Times New Roman"/>
              </a:rPr>
              <a:t>pārvaldības sistēmas izveide un sniegt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33cc"/>
                </a:solidFill>
                <a:latin typeface="Times New Roman"/>
              </a:rPr>
              <a:t>detalizētas ieviešanas vadlīnij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3962520" cy="2825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295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33cc"/>
                </a:solidFill>
                <a:latin typeface="Times New Roman"/>
              </a:rPr>
              <a:t>3. Sadaļa: </a:t>
            </a:r>
            <a:br>
              <a:rPr sz="4400"/>
            </a:br>
            <a:r>
              <a:rPr b="1" lang="fi-FI" sz="4400" spc="-1" strike="noStrike">
                <a:solidFill>
                  <a:srgbClr val="0033cc"/>
                </a:solidFill>
                <a:latin typeface="Times New Roman"/>
              </a:rPr>
              <a:t>Darbības plāns - </a:t>
            </a:r>
            <a:br>
              <a:rPr sz="4400"/>
            </a:br>
            <a:r>
              <a:rPr b="1" lang="fi-FI" sz="4400" spc="-1" strike="noStrike">
                <a:solidFill>
                  <a:srgbClr val="0033cc"/>
                </a:solidFill>
                <a:latin typeface="Times New Roman"/>
              </a:rPr>
              <a:t>soli pa sol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1EF-59F2-435B-A423-6A6312C512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6160" y="2514600"/>
            <a:ext cx="7854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99cc"/>
                </a:solidFill>
                <a:latin typeface="Times New Roman"/>
              </a:rPr>
              <a:t>Vispir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99cc"/>
                </a:solidFill>
                <a:latin typeface="Times New Roman"/>
              </a:rPr>
              <a:t>novērtējiet sav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99cc"/>
                </a:solidFill>
                <a:latin typeface="Times New Roman"/>
              </a:rPr>
              <a:t>organizācijas resurs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99cc"/>
                </a:solidFill>
                <a:latin typeface="Times New Roman"/>
              </a:rPr>
              <a:t>Pārliecinieties, vai ab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99cc"/>
                </a:solidFill>
                <a:latin typeface="Times New Roman"/>
              </a:rPr>
              <a:t>puses pilnībā izprot darba uzdevumu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99cc"/>
                </a:solidFill>
                <a:latin typeface="Times New Roman"/>
              </a:rPr>
              <a:t>Iepazīstieties ar atsauksmēm pa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99cc"/>
                </a:solidFill>
                <a:latin typeface="Times New Roman"/>
              </a:rPr>
              <a:t>konsultantu darbu un pārbaudiet tā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4960" y="6583320"/>
            <a:ext cx="817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6553080"/>
            <a:ext cx="815364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81480" y="1752480"/>
            <a:ext cx="3429000" cy="26416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 u="sng">
                <a:solidFill>
                  <a:srgbClr val="0033cc"/>
                </a:solidFill>
                <a:uFillTx/>
                <a:latin typeface="Times New Roman"/>
              </a:rPr>
              <a:t>Daži padomi darbā ar konsultanti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358-CF14-4155-B9E2-FD0C30885D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11880" y="2413080"/>
            <a:ext cx="487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imes New Roman"/>
              </a:rPr>
              <a:t>Izmantojiet konsultantu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imes New Roman"/>
              </a:rPr>
              <a:t>lai uzzinātu par cit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imes New Roman"/>
              </a:rPr>
              <a:t>uzņēmumu pieredz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1" lang="fi-FI" sz="3200" spc="-1" strike="noStrike">
                <a:solidFill>
                  <a:srgbClr val="0099cc"/>
                </a:solidFill>
                <a:latin typeface="Times New Roman"/>
              </a:rPr>
              <a:t>Vides pārvaldīb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imes New Roman"/>
              </a:rPr>
              <a:t>sistēma, kur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imes New Roman"/>
              </a:rPr>
              <a:t>izstrādājuš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imes New Roman"/>
              </a:rPr>
              <a:t>konsultanti vieni paši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imes New Roman"/>
              </a:rPr>
              <a:t>praksē nedarbos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608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60948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3720" y="6507000"/>
            <a:ext cx="817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647712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257800" y="3352680"/>
            <a:ext cx="3429000" cy="2641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212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 u="sng">
                <a:solidFill>
                  <a:srgbClr val="0033cc"/>
                </a:solidFill>
                <a:uFillTx/>
                <a:latin typeface="Times New Roman"/>
              </a:rPr>
              <a:t>Daži padomi darbā ar konsultanti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F05-5444-46A7-8F58-73E0A74B61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4960" y="6583320"/>
            <a:ext cx="817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64800" y="914400"/>
            <a:ext cx="3061440" cy="1739880"/>
          </a:xfrm>
          <a:custGeom>
            <a:avLst/>
            <a:gdLst>
              <a:gd name="textAreaLeft" fmla="*/ 0 w 3061440"/>
              <a:gd name="textAreaRight" fmla="*/ 3061800 w 3061440"/>
              <a:gd name="textAreaTop" fmla="*/ 0 h 1739880"/>
              <a:gd name="textAreaBottom" fmla="*/ 1740240 h 173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333300"/>
                </a:solidFill>
                <a:latin typeface="Times New Roman"/>
              </a:rPr>
              <a:t>1. Formulējie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333300"/>
                </a:solidFill>
                <a:latin typeface="Times New Roman"/>
              </a:rPr>
              <a:t>V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333300"/>
                </a:solidFill>
                <a:latin typeface="Times New Roman"/>
              </a:rPr>
              <a:t>mērķ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27080" y="2895480"/>
            <a:ext cx="256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666633"/>
                </a:solidFill>
                <a:latin typeface="Times New Roman"/>
              </a:rPr>
              <a:t>2. Izvēlie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666633"/>
                </a:solidFill>
                <a:latin typeface="Times New Roman"/>
              </a:rPr>
              <a:t>stratēģij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37080" y="4572000"/>
            <a:ext cx="266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808000"/>
                </a:solidFill>
                <a:latin typeface="Times New Roman"/>
              </a:rPr>
              <a:t>3. Uzraksti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808000"/>
                </a:solidFill>
                <a:latin typeface="Times New Roman"/>
              </a:rPr>
              <a:t>budžetu u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808000"/>
                </a:solidFill>
                <a:latin typeface="Times New Roman"/>
              </a:rPr>
              <a:t>darba plā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58800" y="990720"/>
            <a:ext cx="28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996633"/>
                </a:solidFill>
                <a:latin typeface="Times New Roman"/>
              </a:rPr>
              <a:t>4. Izveidojie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996633"/>
                </a:solidFill>
                <a:latin typeface="Times New Roman"/>
              </a:rPr>
              <a:t>projekta</a:t>
            </a:r>
            <a:r>
              <a:rPr b="0" lang="fi-FI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996633"/>
                </a:solidFill>
                <a:latin typeface="Times New Roman"/>
              </a:rPr>
              <a:t>grup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47000" y="2819520"/>
            <a:ext cx="23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663300"/>
                </a:solidFill>
                <a:latin typeface="Times New Roman"/>
              </a:rPr>
              <a:t>5. Iesaisti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663300"/>
                </a:solidFill>
                <a:latin typeface="Times New Roman"/>
              </a:rPr>
              <a:t>personāl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990720"/>
            <a:ext cx="3276360" cy="167616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2743200"/>
            <a:ext cx="3276360" cy="1600200"/>
          </a:xfrm>
          <a:prstGeom prst="rect">
            <a:avLst/>
          </a:prstGeom>
          <a:noFill/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4419720"/>
            <a:ext cx="3276360" cy="198108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990720"/>
            <a:ext cx="3124080" cy="167616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2743200"/>
            <a:ext cx="3124080" cy="1600200"/>
          </a:xfrm>
          <a:prstGeom prst="rect">
            <a:avLst/>
          </a:pr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24120" y="4572000"/>
            <a:ext cx="217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996600"/>
                </a:solidFill>
                <a:latin typeface="Times New Roman"/>
              </a:rPr>
              <a:t>6. Veicie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996600"/>
                </a:solidFill>
                <a:latin typeface="Times New Roman"/>
              </a:rPr>
              <a:t>sākotnēj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996600"/>
                </a:solidFill>
                <a:latin typeface="Times New Roman"/>
              </a:rPr>
              <a:t>izpē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4419720"/>
            <a:ext cx="3124080" cy="1981080"/>
          </a:xfrm>
          <a:prstGeom prst="rect">
            <a:avLst/>
          </a:prstGeom>
          <a:noFill/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E24-0277-4A03-BFBB-5EBC589CC8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60948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4960" y="6583320"/>
            <a:ext cx="817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6553080"/>
            <a:ext cx="815364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8380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cc3300"/>
                </a:solidFill>
                <a:latin typeface="Times New Roman"/>
              </a:rPr>
              <a:t>7. Izmainiet plā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2438280"/>
            <a:ext cx="328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993300"/>
                </a:solidFill>
                <a:latin typeface="Times New Roman"/>
              </a:rPr>
              <a:t>8. Sagatavojie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993300"/>
                </a:solidFill>
                <a:latin typeface="Times New Roman"/>
              </a:rPr>
              <a:t>dokumen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11240" y="4114800"/>
            <a:ext cx="312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990000"/>
                </a:solidFill>
                <a:latin typeface="Times New Roman"/>
              </a:rPr>
              <a:t>9. Izstrādājie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990000"/>
                </a:solidFill>
                <a:latin typeface="Times New Roman"/>
              </a:rPr>
              <a:t>pārmaiņ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990000"/>
                </a:solidFill>
                <a:latin typeface="Times New Roman"/>
              </a:rPr>
              <a:t>plā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18440" y="914400"/>
            <a:ext cx="285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800000"/>
                </a:solidFill>
                <a:latin typeface="Times New Roman"/>
              </a:rPr>
              <a:t>10. Apmācie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800000"/>
                </a:solidFill>
                <a:latin typeface="Times New Roman"/>
              </a:rPr>
              <a:t>personāl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8320" y="236232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a50021"/>
                </a:solidFill>
                <a:latin typeface="Times New Roman"/>
              </a:rPr>
              <a:t>11. Novērtēji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a50021"/>
                </a:solidFill>
                <a:latin typeface="Times New Roman"/>
              </a:rPr>
              <a:t>VPS darbīb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762120"/>
            <a:ext cx="3200400" cy="1447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2286000"/>
            <a:ext cx="3200400" cy="16002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962520"/>
            <a:ext cx="3200400" cy="198108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762120"/>
            <a:ext cx="3124080" cy="1447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2286000"/>
            <a:ext cx="3124080" cy="205740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62B4-6820-459C-BF40-0687F866BA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114800" y="609480"/>
            <a:ext cx="914400" cy="6098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990720"/>
            <a:ext cx="3353040" cy="914400"/>
          </a:xfrm>
          <a:prstGeom prst="hexagon">
            <a:avLst>
              <a:gd name="adj" fmla="val 91673"/>
              <a:gd name="vf" fmla="val 115470"/>
            </a:avLst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2133720"/>
            <a:ext cx="3429000" cy="1981080"/>
          </a:xfrm>
          <a:prstGeom prst="hexagon">
            <a:avLst>
              <a:gd name="adj" fmla="val 43272"/>
              <a:gd name="vf" fmla="val 11547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3809880"/>
            <a:ext cx="3581280" cy="2590920"/>
          </a:xfrm>
          <a:prstGeom prst="hexagon">
            <a:avLst>
              <a:gd name="adj" fmla="val 34556"/>
              <a:gd name="vf" fmla="val 11547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2133720"/>
            <a:ext cx="3505320" cy="2133360"/>
          </a:xfrm>
          <a:prstGeom prst="hexagon">
            <a:avLst>
              <a:gd name="adj" fmla="val 41077"/>
              <a:gd name="vf" fmla="val 11547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1066680"/>
            <a:ext cx="3124080" cy="838440"/>
          </a:xfrm>
          <a:prstGeom prst="hexagon">
            <a:avLst>
              <a:gd name="adj" fmla="val 93152"/>
              <a:gd name="vf" fmla="val 11547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6350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Sāk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6720" y="990720"/>
            <a:ext cx="132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V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Polit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69960" y="2181240"/>
            <a:ext cx="17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Plān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2666880"/>
            <a:ext cx="20574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Vides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fakt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Juridiskie/C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Mērķi un uzdevu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Vides pārvaldīb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Program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2000" y="403848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Ievie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4419720"/>
            <a:ext cx="299088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Struktūra un atbildī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Apmācība, Apziņa, Kompetence, KomunikĀ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Dokumentācija, Darbības Kontrole, Gatavība avārijas situācijā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Atgriezeniskā saik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74640" y="1981080"/>
            <a:ext cx="174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Kontrol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Korekci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69880" y="990720"/>
            <a:ext cx="192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Pārvaldī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pārsk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2895480"/>
            <a:ext cx="27432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Monitorings un Mērīju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Koriģējoši un preventīv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pasāku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Uzskaite, pierak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Aud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5105520" y="761760"/>
            <a:ext cx="125784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endCxn id="201" idx="3"/>
          </p:cNvCxnSpPr>
          <p:nvPr/>
        </p:nvCxnSpPr>
        <p:spPr>
          <a:xfrm rot="5400000">
            <a:off x="6438240" y="4381560"/>
            <a:ext cx="915120" cy="5342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/>
          <p:nvPr/>
        </p:nvCxnSpPr>
        <p:spPr>
          <a:xfrm rot="10800000">
            <a:off x="2285280" y="4266360"/>
            <a:ext cx="762840" cy="918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03" idx="0"/>
          </p:cNvCxnSpPr>
          <p:nvPr/>
        </p:nvCxnSpPr>
        <p:spPr>
          <a:xfrm flipH="1" flipV="1" rot="5400000">
            <a:off x="2952360" y="209160"/>
            <a:ext cx="381600" cy="13341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693432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057400" y="1904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600200"/>
            <a:ext cx="137160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Nepārtrau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pilvneid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6960" y="8748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60948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694-E187-40BA-849F-9B6BA4435F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4064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232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662940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23880" y="3213000"/>
            <a:ext cx="5639040" cy="3176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050840" y="65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000099"/>
                </a:solidFill>
                <a:latin typeface="Times New Roman"/>
              </a:rPr>
              <a:t>Vides politi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07080" y="1708200"/>
            <a:ext cx="663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000099"/>
                </a:solidFill>
                <a:latin typeface="Times New Roman"/>
              </a:rPr>
              <a:t>Kāpēc mums ir nepieciešam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000099"/>
                </a:solidFill>
                <a:latin typeface="Times New Roman"/>
              </a:rPr>
              <a:t>vides politik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2F1-5D1A-471B-BC11-1D5E2ADD27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228600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5050"/>
                </a:solidFill>
                <a:latin typeface="Times New Roman"/>
              </a:rPr>
              <a:t>1.Sadaļ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3276720"/>
            <a:ext cx="17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5050"/>
                </a:solidFill>
                <a:latin typeface="Times New Roman"/>
              </a:rPr>
              <a:t>2.Sadaļ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1760" y="42894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5050"/>
                </a:solidFill>
                <a:latin typeface="Times New Roman"/>
              </a:rPr>
              <a:t>3.Sadaļ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5440" y="54324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5050"/>
                </a:solidFill>
                <a:latin typeface="Times New Roman"/>
              </a:rPr>
              <a:t>4.Sadaļ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2057400"/>
            <a:ext cx="466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Vides pārvaldības sistē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nozī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3146400"/>
            <a:ext cx="43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Vides pārvaldības sistē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jēdzie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4114800"/>
            <a:ext cx="47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Vides pārvaldības sistē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izstrāde un vadlīni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tās ieviešan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89280" y="5432400"/>
            <a:ext cx="43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Vides pārvaldības sistē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reģistrēš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328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76212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6553080"/>
            <a:ext cx="815364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6666ff"/>
                </a:solidFill>
                <a:latin typeface="Times New Roman"/>
              </a:rPr>
              <a:t>Satu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F2C-1A45-42D9-9474-DEA9DA54A5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192480" cy="3749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64640" y="1447920"/>
            <a:ext cx="7697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jūsu pārval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deklarācija par </a:t>
            </a:r>
            <a:r>
              <a:rPr b="1" lang="fi-FI" sz="3600" spc="-1" strike="noStrike">
                <a:solidFill>
                  <a:srgbClr val="6666ff"/>
                </a:solidFill>
                <a:latin typeface="Times New Roman"/>
              </a:rPr>
              <a:t>saistību uzņemšanos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attiecībā pret vid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Politikai ir jākļūst par </a:t>
            </a:r>
            <a:r>
              <a:rPr b="1" lang="fi-FI" sz="3600" spc="-1" strike="noStrike">
                <a:solidFill>
                  <a:srgbClr val="6666ff"/>
                </a:solidFill>
                <a:latin typeface="Times New Roman"/>
              </a:rPr>
              <a:t>pamatu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jūs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VPS un jāpalīdz visam uzņēmu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personālam izveidot vienotu attieksm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pret vides aizsardzības jautājumi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662940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Vides </a:t>
            </a:r>
            <a:r>
              <a:rPr b="1" lang="fi-FI" sz="3600" spc="-1" strike="noStrike">
                <a:solidFill>
                  <a:srgbClr val="6666ff"/>
                </a:solidFill>
                <a:latin typeface="Times New Roman"/>
              </a:rPr>
              <a:t>politika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632-0103-4314-8A15-5320527E1B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1905120" y="609480"/>
          <a:ext cx="723888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609480"/>
                    <a:ext cx="72388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60948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662940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E48-B8E9-49E1-8B2E-CDC149FBBB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219320" y="1600200"/>
            <a:ext cx="5486400" cy="480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  <a:effectLst>
            <a:outerShdw dist="159170" dir="1719109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8000"/>
                </a:solidFill>
                <a:latin typeface="Times New Roman"/>
              </a:rPr>
              <a:t>Nepārtraukta pilnveidoš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52400" y="2209680"/>
            <a:ext cx="4892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Vides Pārvaldīb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Sistēmas uzlabošana, l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nodrošinātu pilnīgāk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vides prasību izpildi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saskaņā ar uzņēmu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noteikto vides politiku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80240" y="5638680"/>
            <a:ext cx="19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ISO 14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27BC-594B-4DEF-81D7-C45C054564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600200" y="1905120"/>
            <a:ext cx="5943600" cy="3504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  <a:effectLst>
            <a:outerShdw dist="170334" dir="1597152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60948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6600"/>
                </a:solidFill>
                <a:latin typeface="Times New Roman"/>
              </a:rPr>
              <a:t>Veicamie pamatuzdevu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62480" y="2178000"/>
            <a:ext cx="51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99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339933"/>
                </a:solidFill>
                <a:latin typeface="Times New Roman"/>
              </a:rPr>
              <a:t>Nepārtraukta pilnve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339933"/>
                </a:solidFill>
                <a:latin typeface="Times New Roman"/>
              </a:rPr>
              <a:t>Piesārņojuma novēr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339933"/>
                </a:solidFill>
                <a:latin typeface="Times New Roman"/>
              </a:rPr>
              <a:t>Atbilstība attiecīgajie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339933"/>
                </a:solidFill>
                <a:latin typeface="Times New Roman"/>
              </a:rPr>
              <a:t>  </a:t>
            </a:r>
            <a:r>
              <a:rPr b="1" lang="fi-FI" sz="3600" spc="-1" strike="noStrike">
                <a:solidFill>
                  <a:srgbClr val="339933"/>
                </a:solidFill>
                <a:latin typeface="Times New Roman"/>
              </a:rPr>
              <a:t>likumdošanas akti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0970-1082-4C0A-9730-28E7B97FF6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54880" y="1981080"/>
            <a:ext cx="855972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i-FI" sz="4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i-FI" sz="4800" spc="-1" strike="noStrike">
                <a:solidFill>
                  <a:srgbClr val="6666ff"/>
                </a:solidFill>
                <a:latin typeface="Times New Roman"/>
              </a:rPr>
              <a:t>Vai mēs esam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Izstrādājuši politikas dokument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rakstiskā veid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Ņēmuši vērā mūsu pamatproduktu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procesus un pakalpojum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Ņēmuši vērā visus trīs pamatuzdevum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Efektīvi prezentējuši savu politik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662940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2338560" cy="2514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81280" y="990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 u="sng">
                <a:solidFill>
                  <a:srgbClr val="ff3300"/>
                </a:solidFill>
                <a:uFillTx/>
                <a:latin typeface="Times New Roman"/>
              </a:rPr>
              <a:t>Kontroljautāju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F35-F254-454B-8CB8-763B3C9F94B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114800" y="609480"/>
            <a:ext cx="914400" cy="6098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990720"/>
            <a:ext cx="2667240" cy="914400"/>
          </a:xfrm>
          <a:prstGeom prst="hexagon">
            <a:avLst>
              <a:gd name="adj" fmla="val 72923"/>
              <a:gd name="vf" fmla="val 115470"/>
            </a:avLst>
          </a:prstGeom>
          <a:solidFill>
            <a:srgbClr val="66ccff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2133720"/>
            <a:ext cx="3429000" cy="1981080"/>
          </a:xfrm>
          <a:prstGeom prst="hexagon">
            <a:avLst>
              <a:gd name="adj" fmla="val 43272"/>
              <a:gd name="vf" fmla="val 1154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3962520"/>
            <a:ext cx="3581280" cy="2438280"/>
          </a:xfrm>
          <a:prstGeom prst="hexagon">
            <a:avLst>
              <a:gd name="adj" fmla="val 36719"/>
              <a:gd name="vf" fmla="val 11547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2133720"/>
            <a:ext cx="3505320" cy="2133360"/>
          </a:xfrm>
          <a:prstGeom prst="hexagon">
            <a:avLst>
              <a:gd name="adj" fmla="val 41077"/>
              <a:gd name="vf" fmla="val 11547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1066680"/>
            <a:ext cx="2514600" cy="838440"/>
          </a:xfrm>
          <a:prstGeom prst="hexagon">
            <a:avLst>
              <a:gd name="adj" fmla="val 74979"/>
              <a:gd name="vf" fmla="val 11547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66640" y="6858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āk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3920" y="106668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Times New Roman"/>
              </a:rPr>
              <a:t>Vides Poli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58320" y="228600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Times New Roman"/>
              </a:rPr>
              <a:t>Plāno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2666880"/>
            <a:ext cx="23623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Vides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fakt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Juridiskie/C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Mērķi un uzdevu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Vides pārvaldīb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Program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5840" y="40384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Times New Roman"/>
              </a:rPr>
              <a:t>Ievie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4419720"/>
            <a:ext cx="315756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Struktūra un atbildī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Apmācība, Apziņa, Kompetenc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KomunikĀcija   Dokumentācij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Darbības Kontrol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Gatavība avārijas situācijā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Atgriezeniskā saik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3520" y="2286000"/>
            <a:ext cx="12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Times New Roman"/>
              </a:rPr>
              <a:t>Kontrol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Times New Roman"/>
              </a:rPr>
              <a:t>Korekci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72640" y="1066680"/>
            <a:ext cx="149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Times New Roman"/>
              </a:rPr>
              <a:t>Pārvaldīb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Times New Roman"/>
              </a:rPr>
              <a:t>pārsk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919240"/>
            <a:ext cx="25909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Monitorings un Mērīju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Koriģējoši un preventīv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pasāku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Uzskaite, pierak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Aud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endCxn id="266" idx="0"/>
          </p:cNvCxnSpPr>
          <p:nvPr/>
        </p:nvCxnSpPr>
        <p:spPr>
          <a:xfrm>
            <a:off x="5257440" y="761760"/>
            <a:ext cx="1258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endCxn id="268" idx="3"/>
          </p:cNvCxnSpPr>
          <p:nvPr/>
        </p:nvCxnSpPr>
        <p:spPr>
          <a:xfrm rot="5400000">
            <a:off x="6438240" y="4457520"/>
            <a:ext cx="915120" cy="5342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6" idx="1"/>
          </p:cNvCxnSpPr>
          <p:nvPr/>
        </p:nvCxnSpPr>
        <p:spPr>
          <a:xfrm rot="10800000">
            <a:off x="2513880" y="4419000"/>
            <a:ext cx="762840" cy="9180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0" idx="0"/>
          </p:cNvCxnSpPr>
          <p:nvPr/>
        </p:nvCxnSpPr>
        <p:spPr>
          <a:xfrm flipH="1" flipV="1" rot="5400000">
            <a:off x="2952360" y="209160"/>
            <a:ext cx="381600" cy="13341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693432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057400" y="1904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1600200"/>
            <a:ext cx="1371600" cy="1143000"/>
          </a:xfrm>
          <a:prstGeom prst="ellipse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Nepārtrauk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pilnveidoš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6960" y="8748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60948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460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9000" y="26686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52FC-F377-47AF-A4F1-3F1DAC1511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-138960" y="5337000"/>
            <a:ext cx="94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000000"/>
                </a:solidFill>
                <a:latin typeface="Arial"/>
              </a:rPr>
              <a:t>Kā mans uzņēmums mijiedarbojas ar vid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662940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819520" y="990720"/>
            <a:ext cx="3276360" cy="2603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580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0033cc"/>
                </a:solidFill>
                <a:uFillTx/>
                <a:latin typeface="Times New Roman"/>
              </a:rPr>
              <a:t>Vides faktoru definēša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B312-F68F-4DA7-86C3-6734F912C4E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523880" y="1676520"/>
            <a:ext cx="5410440" cy="403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3300"/>
            </a:solidFill>
            <a:miter/>
          </a:ln>
          <a:effectLst>
            <a:outerShdw dist="170334" dir="1597152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460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6629400"/>
            <a:ext cx="815364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33cc"/>
                </a:solidFill>
                <a:latin typeface="Times New Roman"/>
              </a:rPr>
              <a:t>Vides fakto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37800" y="2209680"/>
            <a:ext cx="4839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Uzņēmuma darbība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produktu va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pakalpojumu elementi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kuri var mijiedarbo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ar vidi.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73280" y="560376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ISO 14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0359-B2DD-4944-B712-5F85EE80FB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143000" y="1676520"/>
            <a:ext cx="5715000" cy="441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  <a:effectLst>
            <a:outerShdw dist="170334" dir="1597152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60948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662940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000099"/>
                </a:solidFill>
                <a:latin typeface="Times New Roman"/>
              </a:rPr>
              <a:t>Ietekme uz vidi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93600" y="1752480"/>
            <a:ext cx="495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Jebkuras pārmaiņ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vidē, gan pozitīvas g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negatīvas, kuras pilnīb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vai daļēji radījus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uzņēmuma darbība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izmantojamie materiāl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vai pakalpojumi.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20640" y="568008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ISO 14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A9C-F2C3-4F68-9A22-7770CD5E443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838080" y="3352680"/>
            <a:ext cx="834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Radītais gaisa piesārņ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Cietie un bīstamie atkritum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Augsnes piesārņoju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Lokālās problēmas (piem. smak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putekļi, satiksme, izskats, ut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3440" y="3429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60948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460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6553080"/>
            <a:ext cx="815364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000099"/>
                </a:solidFill>
                <a:uFillTx/>
                <a:latin typeface="Times New Roman"/>
              </a:rPr>
              <a:t>Novērtējot vides faktorus,</a:t>
            </a:r>
            <a:br>
              <a:rPr sz="4800"/>
            </a:br>
            <a:r>
              <a:rPr b="1" lang="fi-FI" sz="4800" spc="-1" strike="noStrike" u="sng">
                <a:solidFill>
                  <a:srgbClr val="000099"/>
                </a:solidFill>
                <a:uFillTx/>
                <a:latin typeface="Times New Roman"/>
              </a:rPr>
              <a:t>būtu jāanalizē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FE4-A98A-42ED-BE2D-48038260F9E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3192480" cy="3749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69240" y="31608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76212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6553080"/>
            <a:ext cx="815364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66ff"/>
                </a:solidFill>
                <a:latin typeface="Times New Roman"/>
              </a:rPr>
              <a:t>1.Sadaļa: Kāpēc organizācijai būtu vajadzīga Vides pārvaldības sistē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3276720"/>
            <a:ext cx="836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66ff"/>
                </a:solidFill>
                <a:latin typeface="Times New Roman"/>
              </a:rPr>
              <a:t>Šī sadaļa paskaidro, kā VPS jūs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66ff"/>
                </a:solidFill>
                <a:latin typeface="Times New Roman"/>
              </a:rPr>
              <a:t>organizācijai var palīdzēt pilnveido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66ff"/>
                </a:solidFill>
                <a:latin typeface="Times New Roman"/>
              </a:rPr>
              <a:t>un nodrošināt izdevīgākas pozīcij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66ff"/>
                </a:solidFill>
                <a:latin typeface="Times New Roman"/>
              </a:rPr>
              <a:t>mūsdienu globālajā tirgū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BA3-3417-4A30-B79C-BB004F17C6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687240" y="3429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55520" y="2743200"/>
            <a:ext cx="695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Notekūdeņ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Zemes izmantoša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Izejvielu izmantoša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Normālā un speciālo režīm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īpatnības (piem. procesu/iekārt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palaišana vai apturēšana, avārij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situācijas, utt.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60948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460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6553080"/>
            <a:ext cx="815364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609480"/>
            <a:ext cx="76201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000099"/>
                </a:solidFill>
                <a:uFillTx/>
                <a:latin typeface="Times New Roman"/>
              </a:rPr>
              <a:t>Novērtējot vides faktorus,</a:t>
            </a:r>
            <a:br>
              <a:rPr sz="4800"/>
            </a:br>
            <a:r>
              <a:rPr b="1" lang="fi-FI" sz="4800" spc="-1" strike="noStrike" u="sng">
                <a:solidFill>
                  <a:srgbClr val="000099"/>
                </a:solidFill>
                <a:uFillTx/>
                <a:latin typeface="Times New Roman"/>
              </a:rPr>
              <a:t>būtu jāanalizē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7227-16EC-46C8-97D9-2187C64EC32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39720" y="14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444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6960" y="60948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612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10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 u="sng">
                <a:solidFill>
                  <a:srgbClr val="000099"/>
                </a:solidFill>
                <a:uFillTx/>
                <a:latin typeface="Times New Roman"/>
              </a:rPr>
              <a:t>Sakarības starp faktoriem un ietekmi uz vid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40120" y="2286000"/>
            <a:ext cx="7068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5050"/>
                </a:solidFill>
                <a:latin typeface="Arial"/>
              </a:rPr>
              <a:t>Fakto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Gaitošo organisko vielu izm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Notekūdeņu novadīšana upē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Noplūd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Elektroenerģijas izmantoša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Reciklētā papīra izmanto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549-2F4B-4A0E-BA3E-4226BE0DDA3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 u="sng">
                <a:solidFill>
                  <a:srgbClr val="000099"/>
                </a:solidFill>
                <a:uFillTx/>
                <a:latin typeface="Times New Roman"/>
              </a:rPr>
              <a:t>Sakarības starp faktoriem un ietekmi uz vid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8280" y="149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95480" y="2219400"/>
            <a:ext cx="32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68480" y="2232000"/>
            <a:ext cx="8410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5050"/>
                </a:solidFill>
                <a:latin typeface="Arial"/>
              </a:rPr>
              <a:t>Potenciālās vides problēmas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Ozona koncentrācijas pieaugu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piezemes gaisa slānī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Ūdens biotopu degradācija 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traucējumi dzeramā ūdens apgād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Augsnes un gruntsūdeņu piesārņoju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Gaisa piesārņojums un globālā uzsilšana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Dabas resursu aizsardzī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33000" y="1731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5520" y="6192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4320" y="659304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9200" y="656280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CE1-D8F5-497B-B553-F525C63A10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246560" y="3117960"/>
            <a:ext cx="2444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2120" y="838080"/>
            <a:ext cx="3504960" cy="1981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ff"/>
            </a:solidFill>
            <a:miter/>
          </a:ln>
          <a:effectLst>
            <a:outerShdw dist="170334" dir="159715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19720" y="1295280"/>
            <a:ext cx="3886200" cy="2514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ff"/>
            </a:solidFill>
            <a:miter/>
          </a:ln>
          <a:effectLst>
            <a:outerShdw dist="170334" dir="159715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0" y="4267080"/>
            <a:ext cx="3809880" cy="20574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ff"/>
            </a:solidFill>
            <a:miter/>
          </a:ln>
          <a:effectLst>
            <a:outerShdw dist="170334" dir="159715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3352680"/>
            <a:ext cx="3505320" cy="2210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ff"/>
            </a:solidFill>
            <a:miter/>
          </a:ln>
          <a:effectLst>
            <a:outerShdw dist="170334" dir="159715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63040" y="914400"/>
            <a:ext cx="208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99"/>
                </a:solidFill>
                <a:latin typeface="Times New Roman"/>
              </a:rPr>
              <a:t>Definēji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99"/>
                </a:solidFill>
                <a:latin typeface="Times New Roman"/>
              </a:rPr>
              <a:t>v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99"/>
                </a:solidFill>
                <a:latin typeface="Times New Roman"/>
              </a:rPr>
              <a:t>faktor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52880" y="1295280"/>
            <a:ext cx="304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99"/>
                </a:solidFill>
                <a:latin typeface="Times New Roman"/>
              </a:rPr>
              <a:t>Novērtējiet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99"/>
                </a:solidFill>
                <a:latin typeface="Times New Roman"/>
              </a:rPr>
              <a:t>vai jūs tos tiešā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99"/>
                </a:solidFill>
                <a:latin typeface="Times New Roman"/>
              </a:rPr>
              <a:t>kontrolējie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62080" y="3352680"/>
            <a:ext cx="287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99"/>
                </a:solidFill>
                <a:latin typeface="Times New Roman"/>
              </a:rPr>
              <a:t>Nosakiet a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99"/>
                </a:solidFill>
                <a:latin typeface="Times New Roman"/>
              </a:rPr>
              <a:t>tiem sasitī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99"/>
                </a:solidFill>
                <a:latin typeface="Times New Roman"/>
              </a:rPr>
              <a:t>ietekmi uz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99"/>
                </a:solidFill>
                <a:latin typeface="Times New Roman"/>
              </a:rPr>
              <a:t>vi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5600" y="4495680"/>
            <a:ext cx="293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99"/>
                </a:solidFill>
                <a:latin typeface="Times New Roman"/>
              </a:rPr>
              <a:t>Novērtējiet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99"/>
                </a:solidFill>
                <a:latin typeface="Times New Roman"/>
              </a:rPr>
              <a:t>vai šī ietek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99"/>
                </a:solidFill>
                <a:latin typeface="Times New Roman"/>
              </a:rPr>
              <a:t>ir būti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60948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662940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67080" y="1905120"/>
            <a:ext cx="457200" cy="1522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14440" y="3352680"/>
            <a:ext cx="762120" cy="5335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4724280"/>
            <a:ext cx="457200" cy="2286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05E-8381-4D37-AB54-2CA2A8C62EB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694880" y="2133720"/>
            <a:ext cx="70444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800" spc="-1" strike="noStrike">
                <a:solidFill>
                  <a:srgbClr val="6666ff"/>
                </a:solidFill>
                <a:latin typeface="Times New Roman"/>
              </a:rPr>
              <a:t>Vai mēs esam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Novērtējuši mūsu produktu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procesus un pakalpojum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Noteikuši, kuriem no faktoriem i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nozīmīga ietekme uz vid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Dokumentējuši visu procedūr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3520" y="662940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2197080" cy="236232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 u="sng">
                <a:solidFill>
                  <a:srgbClr val="ff3300"/>
                </a:solidFill>
                <a:uFillTx/>
                <a:latin typeface="Times New Roman"/>
              </a:rPr>
              <a:t>Kontroljautāju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72D-C495-40FD-A64A-6190B3B7885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447920" y="236232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000000"/>
                </a:solidFill>
                <a:latin typeface="Arial"/>
              </a:rPr>
              <a:t>Kādi likumdošanas akti ietekmē uzņēmuma darbīb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52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3048120" y="4114800"/>
            <a:ext cx="3081240" cy="24652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000099"/>
                </a:solidFill>
                <a:uFillTx/>
                <a:latin typeface="Arial"/>
              </a:rPr>
              <a:t>Likumdošanas un citas prasīb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D6E-B89C-43B0-A717-FFDF83205EA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3520" y="2590920"/>
            <a:ext cx="36162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Valsts va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lokālā līmeņ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prasīb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Nosacīju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atļauj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saņemšan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8320" y="1676520"/>
            <a:ext cx="41148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Uzņēmuma   noteiku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Standar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Starpt. Tirdzniecības harta (IC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Atbildīb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Citi rūpniecības kodek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232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662940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1712880" cy="285768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6666ff"/>
                </a:solidFill>
                <a:latin typeface="Times New Roman"/>
              </a:rPr>
              <a:t>  </a:t>
            </a:r>
            <a:r>
              <a:rPr b="1" lang="fi-FI" sz="3600" spc="-1" strike="noStrike">
                <a:solidFill>
                  <a:srgbClr val="6666ff"/>
                </a:solidFill>
                <a:latin typeface="Times New Roman"/>
              </a:rPr>
              <a:t>Likumdošanas            Citas prasības                                                            </a:t>
            </a:r>
            <a:br>
              <a:rPr sz="3600"/>
            </a:br>
            <a:r>
              <a:rPr b="1" lang="fi-FI" sz="3600" spc="-1" strike="noStrike">
                <a:solidFill>
                  <a:srgbClr val="6666ff"/>
                </a:solidFill>
                <a:latin typeface="Times New Roman"/>
              </a:rPr>
              <a:t>  prasīb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A8B-A867-483E-97A4-9F8C4D8B20D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905120" y="2286000"/>
            <a:ext cx="5715000" cy="304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  <a:effectLst>
            <a:outerShdw dist="170334" dir="159715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60948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99"/>
                </a:solidFill>
                <a:latin typeface="Times New Roman"/>
              </a:rPr>
              <a:t>Pamatsoļ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8160" y="2514600"/>
            <a:ext cx="501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Identificējiet prasīb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Analizējiet ietekm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Informējiet par to ci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Darbojietie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ED3-2C4E-4070-AD15-87A3C8D126D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584440" y="1676520"/>
            <a:ext cx="526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6666ff"/>
                </a:solidFill>
                <a:latin typeface="Times New Roman"/>
              </a:rPr>
              <a:t>Vai mēs esam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3429000"/>
            <a:ext cx="828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Konstatējuši, kādi likumi un noteiku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nosaka jūsu uzņēmuma darbīb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Esam uzsākuši regulār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dokumetēšanas darbu, lai sekot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notiekošajām pārmaiņā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Runājuši ar nepieciešamajiem cilvēki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460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6553080"/>
            <a:ext cx="815364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2055960" cy="2209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 u="sng">
                <a:solidFill>
                  <a:srgbClr val="ff3300"/>
                </a:solidFill>
                <a:uFillTx/>
                <a:latin typeface="Times New Roman"/>
              </a:rPr>
              <a:t>Kontroljautāju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E29-DA9A-4855-85C9-10804103719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5880" y="1828800"/>
            <a:ext cx="84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000000"/>
                </a:solidFill>
                <a:latin typeface="Arial"/>
              </a:rPr>
              <a:t>Kā formulētie mērķi un uzdevum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000000"/>
                </a:solidFill>
                <a:latin typeface="Arial"/>
              </a:rPr>
              <a:t>var palīdzēt manai organizācija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662940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209680" y="2978280"/>
            <a:ext cx="4724640" cy="352080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000099"/>
                </a:solidFill>
                <a:uFillTx/>
                <a:latin typeface="Arial"/>
              </a:rPr>
              <a:t>Mērķi un uzdevum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2B8D-964A-4897-9CC8-9D0C299BE2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447920"/>
            <a:ext cx="837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a50021"/>
                </a:solidFill>
                <a:latin typeface="Times New Roman"/>
              </a:rPr>
              <a:t>Vides aizsardzības likumi un no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800000"/>
                </a:solidFill>
                <a:latin typeface="Times New Roman"/>
              </a:rPr>
              <a:t>Vides prasību ievēroša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990000"/>
                </a:solidFill>
                <a:latin typeface="Times New Roman"/>
              </a:rPr>
              <a:t>Iespējamie šķēršļ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993300"/>
                </a:solidFill>
                <a:latin typeface="Times New Roman"/>
              </a:rPr>
              <a:t>Resursi (ieskaitot laiku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cc3300"/>
                </a:solidFill>
                <a:latin typeface="Times New Roman"/>
              </a:rPr>
              <a:t>Vides aizsardzības udev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9240" y="31608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76212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232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553080" y="2743200"/>
            <a:ext cx="1936800" cy="350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B1FF-473B-48A5-B61A-BDE3E437DD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905120" y="1600200"/>
            <a:ext cx="5486400" cy="4343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  <a:effectLst>
            <a:outerShdw dist="159170" dir="1719109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4960" y="163440"/>
            <a:ext cx="119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60948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232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99"/>
                </a:solidFill>
                <a:latin typeface="Times New Roman"/>
              </a:rPr>
              <a:t>Vides mērķ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83240" y="1828800"/>
            <a:ext cx="5119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Visaptverošs vid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mērķis, kurš izriet n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vides politikas, ku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uzņēmums sev definē u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tiecas sasniegt, un ir pēc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iespējas detalizēt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izstrādāt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73280" y="57564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ISO 14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B64-0EE4-414D-95EC-19E07345990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762120" y="1676520"/>
            <a:ext cx="7696080" cy="41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  <a:effectLst>
            <a:outerShdw dist="170334" dir="1597152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9480" y="60948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662940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99"/>
                </a:solidFill>
                <a:latin typeface="Times New Roman"/>
              </a:rPr>
              <a:t>Vides uzdevu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38800" y="1828800"/>
            <a:ext cx="7192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Detalizēts pasākumu plāns, pē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iespējas definēts kvantitatīvi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kuru realizē viss uzņēmums va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kāda tā struktūrvienība, kurš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izriet no vides mērķa, un kurš i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jāsastāda un jāizpilda, lai sasniegt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šo mērķi.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65440" y="579132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ISO 14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BA9B-9863-44AE-8257-7E04CC030B2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838080" y="2133720"/>
            <a:ext cx="7696440" cy="426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3399"/>
            </a:solidFill>
            <a:miter/>
          </a:ln>
          <a:effectLst>
            <a:outerShdw dist="170334" dir="1597152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6480" y="22860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232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99"/>
                </a:solidFill>
                <a:latin typeface="Times New Roman"/>
              </a:rPr>
              <a:t>Daži svarīgi pado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90720" y="2286000"/>
            <a:ext cx="7621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Raugieties tālāk par normatīviem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kā arī uz darbību, kur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normatīvi neregul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Sarindojiet uzdevumus prioritār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secīb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Neaizmirstiet pakalpojumus u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kontraktor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E73E-90BF-4C9F-9839-9A1E0C53B77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99"/>
                </a:solidFill>
                <a:latin typeface="Times New Roman"/>
              </a:rPr>
              <a:t>Faktori, kurus jāņem vērā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10920" y="1752480"/>
            <a:ext cx="7898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ekologiskie efek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ietekme uz cilvēka veselīb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katastrofu draud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resursu noplicināša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ietekmes mērogs, smagums un ilgu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dažādu notikumu varbūtīb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pārmaiņu ce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citi biznesa efek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AD3-4658-4B52-BCB8-43A8D7A1A90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232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99"/>
                </a:solidFill>
                <a:latin typeface="Times New Roman"/>
              </a:rPr>
              <a:t>Faktori, kurus jāievēro, formulējot mērķus un uzdevum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27160" y="3505320"/>
            <a:ext cx="749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spēja kontrolē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spēja sekot un mērī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sekošanas un mērīšanas izmaks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progresa fiksēšana un ziņojum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saikne ar definēto politik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E4C-F3E5-4341-B1CF-A769620FA0E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730080" y="2057400"/>
            <a:ext cx="7499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3300"/>
                </a:solidFill>
                <a:latin typeface="Arial"/>
              </a:rPr>
              <a:t>Mērķi </a:t>
            </a: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Samazināt enerģijas patēriņu </a:t>
            </a: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Samazināt bīstamo vielu patēriņu </a:t>
            </a: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Samazināt bīstamos atkritu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Padziļināt personāla izpratni pa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vides problēmā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Paaugstināt procesu atbilstīb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atļaujās noteiktajām robežā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 u="sng">
                <a:solidFill>
                  <a:srgbClr val="000099"/>
                </a:solidFill>
                <a:uFillTx/>
                <a:latin typeface="Arial"/>
              </a:rPr>
              <a:t>Uzdevumu un mērķu salīdzināju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6BA8-2ABD-4042-BDA0-8D123AA1164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3853080" y="10954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2133720"/>
            <a:ext cx="10667880" cy="33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3300"/>
                </a:solidFill>
                <a:latin typeface="Arial"/>
              </a:rPr>
              <a:t>Uzdevumi </a:t>
            </a:r>
            <a:r>
              <a:rPr b="1" lang="fi-FI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Samazināt enerģijas patēriņu par 10% līdz 199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Samazināt dabas gāzes patēriņu par 15% 1996. gadā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Samazināt freonu izmantošanu līdz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Samazināt gaistošās organiskās vie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saturošu krāsu izmantošanu par 25%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Samazināt hroma atkritumus galvanizācijas sektor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par 50% 1997. gad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 u="sng">
                <a:solidFill>
                  <a:srgbClr val="000099"/>
                </a:solidFill>
                <a:uFillTx/>
                <a:latin typeface="Arial"/>
              </a:rPr>
              <a:t>Uzdevumu un mērķu salīdzināju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F58-0B42-4E0A-843B-88B3AF6B46D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3853080" y="8557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8080" y="1981080"/>
            <a:ext cx="8523360" cy="33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3300"/>
                </a:solidFill>
                <a:latin typeface="Arial"/>
              </a:rPr>
              <a:t>Uzdevumi </a:t>
            </a:r>
            <a:r>
              <a:rPr b="1" lang="fi-FI" sz="36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Ik mēnesi rīkot apmācības kursu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Līdz gada beigām apmācī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100% personāla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Neviena piesārņojuma limit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pārkāpuma līdz 1997.gada beigā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6960" y="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44604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590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 u="sng">
                <a:solidFill>
                  <a:srgbClr val="000099"/>
                </a:solidFill>
                <a:uFillTx/>
                <a:latin typeface="Arial"/>
              </a:rPr>
              <a:t>Uzdevumu un mērķu salīdzināju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A425-368B-4D66-84A9-1228EAA2BB2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-568440" y="2743200"/>
            <a:ext cx="973008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88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cc"/>
                </a:solidFill>
                <a:latin typeface="Times New Roman"/>
              </a:rPr>
              <a:t>Vai mēs esam 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88000"/>
              </a:lnSpc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dokumentējuši mērķus un uzdevum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88000"/>
              </a:lnSpc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pārbaudījuši, vai mērķi un uzdevu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88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saskan ar izvēlēto vides politik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88000"/>
              </a:lnSpc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saskaņojuši tos ar biznesa plān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88000"/>
              </a:lnSpc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pārdomājuši sekošanas progresam noris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88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un panākumu dokumentēšanas kārtīb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2127240" cy="22860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 u="sng">
                <a:solidFill>
                  <a:srgbClr val="ff3300"/>
                </a:solidFill>
                <a:uFillTx/>
                <a:latin typeface="Times New Roman"/>
              </a:rPr>
              <a:t>Kontroljautāju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DE6-EB44-43E4-A4E3-9E2850F192F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104480" y="5257800"/>
            <a:ext cx="663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Plānojiet pasākumus, la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sasniegtu mērķus un uzdevum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662940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2052720" cy="29718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0033cc"/>
                </a:solidFill>
                <a:uFillTx/>
                <a:latin typeface="Times New Roman"/>
              </a:rPr>
              <a:t>Vides pārvaldības program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205-DDB9-4DC8-80E2-E14263EE0A9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505320" y="2743200"/>
            <a:ext cx="548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Personāla laik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patēriņ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Konsultantu palīdzīb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Personāla apmācīb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28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232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76212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2971800" cy="42069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 u="sng">
                <a:solidFill>
                  <a:srgbClr val="6666ff"/>
                </a:solidFill>
                <a:uFillTx/>
                <a:latin typeface="Times New Roman"/>
              </a:rPr>
              <a:t>Izmaksas un ieguvumi </a:t>
            </a:r>
            <a:br>
              <a:rPr sz="2400"/>
            </a:br>
            <a:r>
              <a:rPr b="1" lang="fi-FI" sz="3600" spc="-1" strike="noStrike" u="sng">
                <a:solidFill>
                  <a:srgbClr val="ff5050"/>
                </a:solidFill>
                <a:uFillTx/>
                <a:latin typeface="Times New Roman"/>
              </a:rPr>
              <a:t>Izmaks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E34-2AC0-4D55-BCBC-EBBCE990CE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232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" y="662940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5680" y="990720"/>
            <a:ext cx="797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 u="sng">
                <a:solidFill>
                  <a:srgbClr val="00cc99"/>
                </a:solidFill>
                <a:uFillTx/>
                <a:latin typeface="Times New Roman"/>
              </a:rPr>
              <a:t>Sadaliet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lomas un atbildību u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nodrošiniet nepieciešamos resur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 u="sng">
                <a:solidFill>
                  <a:srgbClr val="00cc99"/>
                </a:solidFill>
                <a:uFillTx/>
                <a:latin typeface="Times New Roman"/>
              </a:rPr>
              <a:t>Parūpējieties, </a:t>
            </a:r>
            <a:r>
              <a:rPr b="1" lang="fi-FI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lai jūsu darbinieki būt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apmācīti un spējīgi pildīt uzticēt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pienākumus attiecībā pret vidi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 u="sng">
                <a:solidFill>
                  <a:srgbClr val="00cc99"/>
                </a:solidFill>
                <a:uFillTx/>
                <a:latin typeface="Times New Roman"/>
              </a:rPr>
              <a:t>Nodrošiniet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iekšējo un ārēj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vides pārvaldības komunikācij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procesu iespēj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7467480" y="3809880"/>
            <a:ext cx="91440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6D2-56CA-49FD-9313-FF78238F583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232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" y="662940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02880" y="816120"/>
            <a:ext cx="7593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 u="sng">
                <a:solidFill>
                  <a:srgbClr val="33cccc"/>
                </a:solidFill>
                <a:uFillTx/>
                <a:latin typeface="Times New Roman"/>
              </a:rPr>
              <a:t>Uzturiet </a:t>
            </a:r>
            <a:r>
              <a:rPr b="1" lang="fi-FI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VPS un ar to sasitī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lietvedīb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 u="sng">
                <a:solidFill>
                  <a:srgbClr val="33cccc"/>
                </a:solidFill>
                <a:uFillTx/>
                <a:latin typeface="Times New Roman"/>
              </a:rPr>
              <a:t>Nodrošiniet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efektīvu pārvaldības u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citu sistēmu dokumentācij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 u="sng">
                <a:solidFill>
                  <a:srgbClr val="33cccc"/>
                </a:solidFill>
                <a:uFillTx/>
                <a:latin typeface="Times New Roman"/>
              </a:rPr>
              <a:t>Definējiet, plānojiet un vadiet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savu darbību, saskaņā ar jūs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uzņēmuma politiku, mērķiem u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uzdevumi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7467480" y="3657600"/>
            <a:ext cx="1371600" cy="259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133-A924-4175-A206-46F703F9149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232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62940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77680" y="892080"/>
            <a:ext cx="7864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 u="sng">
                <a:solidFill>
                  <a:srgbClr val="008080"/>
                </a:solidFill>
                <a:uFillTx/>
                <a:latin typeface="Times New Roman"/>
              </a:rPr>
              <a:t>Paredziet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iespējamās kritiskā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situācijas un izstrādājiet to novēršan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un seku likvidēšanas pasākum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kompleks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 u="sng">
                <a:solidFill>
                  <a:srgbClr val="008080"/>
                </a:solidFill>
                <a:uFillTx/>
                <a:latin typeface="Times New Roman"/>
              </a:rPr>
              <a:t>Sekojiet līdzi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galvenajie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pasākumiem, to rezultātiem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izdariet nepieciešamā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korekcijas un savlaicīg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novērsiet iespējam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recidīvu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6553080" y="3124080"/>
            <a:ext cx="236232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CB6-C6F1-4757-94BA-6C72F1C07B8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232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" y="662940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34960" y="1523880"/>
            <a:ext cx="6539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 u="sng">
                <a:solidFill>
                  <a:srgbClr val="006699"/>
                </a:solidFill>
                <a:uFillTx/>
                <a:latin typeface="Times New Roman"/>
              </a:rPr>
              <a:t>Veiciet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adekvātu VPS darbīb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 u="sng">
                <a:solidFill>
                  <a:srgbClr val="006699"/>
                </a:solidFill>
                <a:uFillTx/>
                <a:latin typeface="Times New Roman"/>
              </a:rPr>
              <a:t>uzskai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Periodiski </a:t>
            </a:r>
            <a:r>
              <a:rPr b="1" lang="fi-FI" sz="3600" spc="-1" strike="noStrike" u="sng">
                <a:solidFill>
                  <a:srgbClr val="006699"/>
                </a:solidFill>
                <a:uFillTx/>
                <a:latin typeface="Times New Roman"/>
              </a:rPr>
              <a:t>pārbaudiet,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vai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jūsu VPS darbojas k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bija plāno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Periodiski </a:t>
            </a:r>
            <a:r>
              <a:rPr b="1" lang="fi-FI" sz="3600" spc="-1" strike="noStrike" u="sng">
                <a:solidFill>
                  <a:srgbClr val="006699"/>
                </a:solidFill>
                <a:uFillTx/>
                <a:latin typeface="Times New Roman"/>
              </a:rPr>
              <a:t>pārskati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savu VPS, ar mērķ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atrast jaun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pilnveidošanas iespēj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6400800" y="2514600"/>
            <a:ext cx="1620720" cy="291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552-8883-4DE5-98E1-36964B447F5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017360" y="2441520"/>
            <a:ext cx="787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6666ff"/>
                </a:solidFill>
                <a:latin typeface="Times New Roman"/>
              </a:rPr>
              <a:t>ISO 14001 prasības uzņēmuma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izstrādāt vides politiku, ņemot vēr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vides prasība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apzināt attiecīgos vides likumdošan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aktus un nodrošināt pieeju tiem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60948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662940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 u="sng">
                <a:solidFill>
                  <a:srgbClr val="006600"/>
                </a:solidFill>
                <a:uFillTx/>
                <a:latin typeface="Times New Roman"/>
              </a:rPr>
              <a:t>Kā ISO 14001 atbalsta Vides prasību ievērošanu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1DBF-4C56-4F78-9C28-33028107236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1119240" y="2278080"/>
            <a:ext cx="7034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6666ff"/>
                </a:solidFill>
                <a:latin typeface="Times New Roman"/>
              </a:rPr>
              <a:t>ISO 14001 prasības uzņēmuma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definēt mērķus un uzdevumus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izstrādāt kontroles mehānismus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izstrādāt rīcības plānu kritisk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situāciju gadījumiem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izstrādāt periodisku novērtēša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plān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6960" y="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4604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8640" y="641988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646596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826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 u="sng">
                <a:solidFill>
                  <a:srgbClr val="006600"/>
                </a:solidFill>
                <a:uFillTx/>
                <a:latin typeface="Times New Roman"/>
              </a:rPr>
              <a:t>Kā ISO 14001 atbalsta Vides prasību ievērošanu 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320A-430D-438E-9128-C62CDAFAE20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70640" y="2743200"/>
            <a:ext cx="56991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Ievērotas vides prasī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Labākas pielāgošanās spējas /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lielāka elastī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Jauni klienti / tirg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Augstāka efektivitāte /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zemākas izmak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328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232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76212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667240" cy="3352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 u="sng">
                <a:solidFill>
                  <a:srgbClr val="6666ff"/>
                </a:solidFill>
                <a:uFillTx/>
                <a:latin typeface="Times New Roman"/>
              </a:rPr>
              <a:t>Izmaksas un ieguvumi </a:t>
            </a:r>
            <a:br>
              <a:rPr sz="4400"/>
            </a:br>
            <a:r>
              <a:rPr b="1" lang="fi-FI" sz="3600" spc="-1" strike="noStrike" u="sng">
                <a:solidFill>
                  <a:srgbClr val="ff5050"/>
                </a:solidFill>
                <a:uFillTx/>
                <a:latin typeface="Times New Roman"/>
              </a:rPr>
              <a:t>Ieguv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41A-B28D-49CC-B5B5-3495A9EE22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27640" y="3984480"/>
            <a:ext cx="813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Augstāka darba kultū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Labāks uzņēmuma imidžs sabiedrīb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Samazinās nepieciešamība pēc jaunu darbiniek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apmācī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Pozitīva attieksme no uzraudzības institūciju p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328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232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76212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57800" y="1066680"/>
            <a:ext cx="3200400" cy="2819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 u="sng">
                <a:solidFill>
                  <a:srgbClr val="6666ff"/>
                </a:solidFill>
                <a:uFillTx/>
                <a:latin typeface="Times New Roman"/>
              </a:rPr>
              <a:t>Izmaksas un ieguvumi </a:t>
            </a:r>
            <a:br>
              <a:rPr sz="4400"/>
            </a:br>
            <a:br>
              <a:rPr sz="4400"/>
            </a:br>
            <a:r>
              <a:rPr b="1" lang="fi-FI" sz="3600" spc="-1" strike="noStrike" u="sng">
                <a:solidFill>
                  <a:srgbClr val="ff5050"/>
                </a:solidFill>
                <a:uFillTx/>
                <a:latin typeface="Times New Roman"/>
              </a:rPr>
              <a:t>Ieguv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018-4392-43B2-8C1D-44A37A1DBB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97040" y="2133720"/>
            <a:ext cx="3394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0066"/>
                </a:solidFill>
                <a:latin typeface="Times New Roman"/>
              </a:rPr>
              <a:t>Kvalitātes polit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0066"/>
                </a:solidFill>
                <a:latin typeface="Times New Roman"/>
              </a:rPr>
              <a:t>Atbilstoši resur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0066"/>
                </a:solidFill>
                <a:latin typeface="Times New Roman"/>
              </a:rPr>
              <a:t>Atbildīb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0066"/>
                </a:solidFill>
                <a:latin typeface="Times New Roman"/>
              </a:rPr>
              <a:t>Apmācī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0066"/>
                </a:solidFill>
                <a:latin typeface="Times New Roman"/>
              </a:rPr>
              <a:t>Dokumentē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0066"/>
                </a:solidFill>
                <a:latin typeface="Times New Roman"/>
              </a:rPr>
              <a:t>Procesa kont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0066"/>
                </a:solidFill>
                <a:latin typeface="Times New Roman"/>
              </a:rPr>
              <a:t>Dokumentu kont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0066"/>
                </a:solidFill>
                <a:latin typeface="Times New Roman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0066"/>
                </a:solidFill>
                <a:latin typeface="Times New Roman"/>
              </a:rPr>
              <a:t>Pārvaldības pārsk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07280" y="2133720"/>
            <a:ext cx="3394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99"/>
                </a:solidFill>
                <a:latin typeface="Times New Roman"/>
              </a:rPr>
              <a:t>Vides polit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99"/>
                </a:solidFill>
                <a:latin typeface="Times New Roman"/>
              </a:rPr>
              <a:t>Atbilstoši resur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99"/>
                </a:solidFill>
                <a:latin typeface="Times New Roman"/>
              </a:rPr>
              <a:t>Atbildīb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99"/>
                </a:solidFill>
                <a:latin typeface="Times New Roman"/>
              </a:rPr>
              <a:t>Apmācīb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99"/>
                </a:solidFill>
                <a:latin typeface="Times New Roman"/>
              </a:rPr>
              <a:t>Dokumentē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99"/>
                </a:solidFill>
                <a:latin typeface="Times New Roman"/>
              </a:rPr>
              <a:t>Procesa kont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99"/>
                </a:solidFill>
                <a:latin typeface="Times New Roman"/>
              </a:rPr>
              <a:t>Dokumentu kont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99"/>
                </a:solidFill>
                <a:latin typeface="Times New Roman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99"/>
                </a:solidFill>
                <a:latin typeface="Times New Roman"/>
              </a:rPr>
              <a:t>Pārvaldības pārsk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3280" y="31608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76212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 u="sng">
                <a:solidFill>
                  <a:srgbClr val="6666ff"/>
                </a:solidFill>
                <a:uFillTx/>
                <a:latin typeface="Times New Roman"/>
              </a:rPr>
              <a:t>Kopīgais Kvalitātes un Vides pārvaldības sistēmā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45B-32A5-4FE2-921B-C52EAF4FAF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93280" y="3920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11. BUILDING AN 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83808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232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1998720" cy="2854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-380880" y="4419720"/>
            <a:ext cx="995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66ff"/>
                </a:solidFill>
                <a:latin typeface="Times New Roman"/>
              </a:rPr>
              <a:t>Šī sadaļa skaidro, kas ir pārvaldīb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66ff"/>
                </a:solidFill>
                <a:latin typeface="Times New Roman"/>
              </a:rPr>
              <a:t>sistēma, un kā tā var palīdzē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66ff"/>
                </a:solidFill>
                <a:latin typeface="Times New Roman"/>
              </a:rPr>
              <a:t>uzņēmum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66ff"/>
                </a:solidFill>
                <a:latin typeface="Times New Roman"/>
              </a:rPr>
              <a:t>2. Sadaļa : Vides pārvaldības sistēmas pamatjēdzie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B07-9F62-44C6-A090-47C6AF49B3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0:43:18Z</dcterms:created>
  <dc:creator>Marja Innanen</dc:creator>
  <dc:description/>
  <dc:language>en-US</dc:language>
  <cp:lastModifiedBy>CESAMS</cp:lastModifiedBy>
  <cp:lastPrinted>2000-05-09T10:10:18Z</cp:lastPrinted>
  <dcterms:modified xsi:type="dcterms:W3CDTF">2000-05-24T22:32:00Z</dcterms:modified>
  <cp:revision>242</cp:revision>
  <dc:subject/>
  <dc:title>Ei dian otsikkoa</dc:title>
</cp:coreProperties>
</file>